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6320" y="952560"/>
            <a:ext cx="6570720" cy="733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0            OMA-EXPENDITURE                29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15,185.43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3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$21,63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14,187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28,796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00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698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8369280"/>
            <a:ext cx="5803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457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5080" y="85680"/>
            <a:ext cx="2284560" cy="453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AMERITEC COMPAN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86680" y="650880"/>
            <a:ext cx="173592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3840" y="809640"/>
            <a:ext cx="20102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.O. BOX 7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AVANNNAH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87040" y="1260360"/>
            <a:ext cx="18273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MOUNT  PAI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02160" y="15238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06480" y="1419120"/>
            <a:ext cx="2101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ST SIGNAL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DG 200, RM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. STEWART, GA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8080" y="2174760"/>
            <a:ext cx="65689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URRENT CHARGES                                      TOTAL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S DUE AFTER......JAN 5, **              AMOUNT DUE:   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120" y="2943360"/>
            <a:ext cx="6490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TACHED AND MAIL TOP PORTION WITH YOUR CHECK MADE PAYABLE TO 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ELL FOR THE TOTAL AMOUNT 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-29880" y="3357720"/>
            <a:ext cx="6902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3800" y="3705120"/>
            <a:ext cx="1644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ILLING SUMM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52680" y="3645000"/>
            <a:ext cx="162936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912) 355-XXXX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51960" y="4025880"/>
            <a:ext cx="160668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 26, 19**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5800" y="4384800"/>
            <a:ext cx="6490800" cy="75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EVIOUS                           PAST DUE   CURRENT      TOTAL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ILL     PAYMENTS   ADJUSTMENT   AMOUNT      CHARGES   AMOUNT 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$13,965.00   $13,965.00     $0.00           $0.00       $14,185.00    $14,185.00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4360" y="5281560"/>
            <a:ext cx="603360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SUMMARY OF CURRENT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OR DETAIL CHARGES - SEE P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NTHLY SERVICE ......................................$12,8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 DISTANCE ........................................$ 1,3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IANA BELL CURRENT CHARGES ........................ 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&amp;T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FOR DETAIL CHARGES - SEE P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NG DISTANCE.........................................$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&amp;T COMMUNICATIONS CURRENT CHARGES...................$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CURRENT CHARGES ................................$14,18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1*2020 03-3116 117095.00-2330 PHN129*GEOBEL/U300 S09076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03560" y="7929720"/>
            <a:ext cx="29246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THAT THE SERVICE CALLED FOR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DELIVERY ORDER HAS BEEN RENDERED P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ERMS &amp; SPECIFICATIONS OF THE ORD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UPERT O. TAY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J, S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5080" y="487692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0968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4425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1972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4425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6640" y="7947000"/>
            <a:ext cx="2101680" cy="453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ORGIA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 AMERICAN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38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88400" y="0"/>
            <a:ext cx="32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Utility bill. No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bursement ,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uch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7360" y="85680"/>
            <a:ext cx="6765120" cy="82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.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2000/1 OCT **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GEORGIA BELL TELEPHONE COMPANY 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240 NORTH MAIN STREET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6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2NOV**      TELEPHONE LOCAL EXCHANGE AND T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HRU        SERVICE PER DETAILED BILL HER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 DEC**     WITH ATTACHED DTD 26 DEC **                                      $14,18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14,185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14,185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WALTER CORY, LTC, FC, DO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DISBURS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*2020 03-3116 117095.00-2330 PHN129*GEOBELL/U300 S09076   $14,18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9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720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440" y="609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440" y="26668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440" y="24382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64280" y="2209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64280" y="19810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64280" y="16765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440" y="12952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21080" y="10666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440" y="30481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440" y="4876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6560" y="28195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440" y="50292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440" y="58672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97240" y="5638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73160" y="5257800"/>
            <a:ext cx="570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73160" y="5410080"/>
            <a:ext cx="570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9480" y="563868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440" y="6400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440" y="6705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40" y="73152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440" y="7848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5080" y="7620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4960" y="807732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244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44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44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44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44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00" y="8750160"/>
            <a:ext cx="6118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40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680" y="81000"/>
            <a:ext cx="67723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DI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80" y="72388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9920" y="6711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8902800"/>
            <a:ext cx="6629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44               DD Form 1155  1 Aug 66 (Computer Look Alike)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680" y="81000"/>
            <a:ext cx="6772320" cy="859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29.DIFF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      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/S/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[X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29 DEC **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73560" y="2133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57800" y="67057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80" y="8305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14800" y="708660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708660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05120" y="8305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2120" y="8305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6880" y="739152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6428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-7200" y="8610480"/>
            <a:ext cx="3130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6629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70866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7086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4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680" y="81000"/>
            <a:ext cx="677232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80         0001            25 DEC **       PRC 2404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1 JAN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CONSTRUCTION SERVICE CO.         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129 W. 22ND ST.                                       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HOSPITAL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63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60-25CZ W23DFB*3340001/W6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HOSPITAL HEATING AND         1 JOB                 163.00       $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163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   DI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269990         INIT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/S/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X]FINAL  FT. STEWART GA             $163.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31314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X]COMPLETE  ADSN: 6348              6798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[]PARTIAL    30 DEC **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29 DEC **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133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6711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6880" y="72388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7086600"/>
            <a:ext cx="525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57800" y="7086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8902800"/>
            <a:ext cx="6858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48                        DD 1155 1 AUG 66 ( Computer Look Alike)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594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LDG &amp; SUPPLY    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INANCE CORPS, 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 3408, 3207, 4603, 4909, 4881, 5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SIX HUNDRED FORTY TWO DOLLARS                        $10,64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5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DEC **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5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55440" y="227160"/>
            <a:ext cx="6802560" cy="831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 1.  PROC.  INSTRUMENT  ID (CONTRACT)  ORDER NO 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594 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10.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MITH BROTHER’S BLDG &amp; SUPPLY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 &amp; C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30 S. MADISON                                 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17. QUANTITY*    18.       19.           2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BLDG #3408 AND 3207 COMPLETE                                   $3,192.00    3,19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23DFB*3350009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.   PROCUREMENT QUALITY ASSURANCE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 DEC **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CHAEL AL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MAJ, CE, DE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A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.  OF AUTH REP.                                    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N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960" y="8521560"/>
            <a:ext cx="277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2440" y="6858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2440" y="10666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2440" y="17524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440" y="312408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06880" y="2438280"/>
            <a:ext cx="36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440" y="34290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440" y="54864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2440" y="777240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2440" y="6934320"/>
            <a:ext cx="677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4440" y="64008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00" y="8750160"/>
            <a:ext cx="6118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54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7720" y="85680"/>
            <a:ext cx="6704280" cy="82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5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1594/16DEC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SMITH BROTHER’S BLDG &amp; SUPPLY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3130 MADISON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LDG #3408 AND 3207 COMPLE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30% PROGRESS PAY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$ 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 3,192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 3,192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     CARMEN B. MIRANDOLINO         .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     Chief, Accounts Pay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   $ 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9001               $3,192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-720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2440" y="6094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2440" y="2666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440" y="24382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64280" y="22096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64280" y="19810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4280" y="167652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2440" y="129528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21080" y="10666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44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440" y="4876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6560" y="281952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2440" y="5029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2440" y="58672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97240" y="5638680"/>
            <a:ext cx="250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73160" y="525780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73160" y="541008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56386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440" y="64008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440" y="6705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440" y="7315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440" y="7848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5080" y="7620120"/>
            <a:ext cx="647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44960" y="8077320"/>
            <a:ext cx="26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244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244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244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244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44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5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81000" y="108000"/>
            <a:ext cx="6700680" cy="88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)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(SEE 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9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29.DIFF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30.INITIAL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16002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2280" y="9144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5240" y="251460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280" y="533520"/>
            <a:ext cx="540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280" y="3200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8920" y="38098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088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2280" y="434340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280" y="4876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280" y="51814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2280" y="6705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52280" y="7086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8534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7924680"/>
            <a:ext cx="304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06880" y="74674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64280" y="77724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64280" y="8001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06880" y="77724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3320" y="8918640"/>
            <a:ext cx="1621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019920" y="67118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14400" y="3581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04920" y="8902800"/>
            <a:ext cx="655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0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680" y="81000"/>
            <a:ext cx="6772320" cy="900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FFERENT ENTER ACTUAL QTY.   By: WENDALL PURCHASE, CONTRACT/ORDER OFFICER     DIFF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INSPECTED [ ]RECEVED [ ]ACCEPTED,CONFORMS                                 INITIALS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      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/S/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]FINAL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     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]COMPLETE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]PARTIAL               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29 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80" y="7086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00400" y="72453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06880" y="7238880"/>
            <a:ext cx="20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264280" y="8229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06880" y="7620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8920080"/>
            <a:ext cx="3581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19920" y="6711840"/>
            <a:ext cx="0" cy="6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6711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57800" y="73915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25780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57800" y="6858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2280" y="8902800"/>
            <a:ext cx="670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62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1000" y="74520"/>
            <a:ext cx="6684840" cy="956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 JOHN D.  256-54-9701                CPT 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COMPTROLLER 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CHICAGO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 35.00        $  4.00          $  18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/N103 S09076  $ 35.00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/N103 S09076  $ 150.00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40" y="861048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4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64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680" y="81000"/>
            <a:ext cx="6772320" cy="900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ED                                [ ] REQUEST FOR QUOTATION NO.             PAGE 1 OF  1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X     [X] ORDER FOR SUPPLIES OR         RETURN COPY (IES)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PPLIES             SERVICES           (THIS IN NOT AN ORDER. SEE DD FORM 1155r  5. CER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CONTRACT/PURCH NO.  2.DELIVERY ORDER NO  3.DATE ORDER  4.REQUEST/PURCH REQ NO  UNDER DMSREG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 C 1496     DAFI01 ** D 1500      23 DEC **       PRC 3406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ISSUED BY:         CODE              7.  ADMINISTTERED BY:       CODE        8.DELIVERY FO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AND CONTRACTING OFFICER                                                 [ ]OTH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 31314                                                           (SEE 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OTHE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CONTRACTOR/QUOTER      CODE           FACILITY CODE      10.DELIVER TO FOB   11.CHECK SM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DEC **       BUSINESS[ 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AME AND     WRIGHT-BACHMAN CONSTRUCTION, INC.               12.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7980 N. MICHIGAN RD.                                 2/10,  N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VANNAH GA  31314                              13. MAIL INVOICES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4. SHIP TO:               CODE          15. PAYMENT MADE BY:         CODE         MARK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ST ENGINEER                                                                 PACKAGE 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  100                               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DELIVERY     THIS DELIVERY ORDER IS SUBJECT TO INSTRUCTIONS CONTAINED ON THE SIDE OF FO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ONLY AND IS ISSUED ON ANOTHER GOVERNMENT AGENCY OR IAW TERMS OF ABOVE CONTRA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    REFERENCE YOUR QUATION, 1 DEC **, FURNISH THE FOLLOWING ITERMS SPECIFIE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ENERAL PROVISIONS OF PURCHASE ORDER ON DD FORM 1155r(EXCEPT NO 13[]OR NO 15 [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S CHECKED; SPECIAL PROVISIONS           NONE                  AND DELIVERY AS INDICATED.  TH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IS NEGOTIATED UNDER AUTHORITY OF 10 USC 2304(a)(3); IF OTHERWISE UNDER USC 2304 (a)(6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 IF CHECKED, ADDITIONAL GENERAL PROVISIONS APPLY; SUPPLIER SIGN ON DD FORM 1155r     COP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 ACCOUNTING AND APPROPRIATION DATA/LOCAL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78.Z0-25CZ W23DFB*3530001/L10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.       19.                                      20. QTY      21.      22.           2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NO           SCHEDULE OF SUPPLIES/SERVICES     ORD/ACCEP     UNIT    UNIT PRICED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       REPAIR OF ROOFS - BLDG 555 AND 556,     1 JOB                 832.00      $83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PERTY DISPOSAL INSIDE STORAGE ARE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QTY ACCEPTED BY GOV’T IS   24.  UNITED STATES OF AMERICAN                25.TOTAL    $832.00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AME AS QTY ORDERED/MARK.                   /S/                             29.         (16.64)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QUANTITY IN COLUMN 20___HAS BEEN          27.SHIP NO   28.D.O. VOU NO   30.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INSPECTED [X]RECEVED [X]ACCEPTED,CONFORMS                  226511         INITIALS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PT AS NOTED     []PARTIAL  32.PAID B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3. AMOUNT VER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9 DEC**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/S/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[]FINAL    FT STEWART,GA          $815.36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SIGNATURE OF GOVT REPRESENTATIVE   31.PAYMENT     31314          34.  CHE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CERTIFY ACCOUNT IS PROPER FOR PAYMENT.      [X]COMPLETE    ADSN: 6348             6785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DEC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/S/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[]PARTIAL       30 DEC **     35.BILL OF LADING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ATURE OF CERTIFING OFFICER          []FINAL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7.RECD    38.RECEIVED BY   39.  DATE REC’D   40.CONTAIN    42.S/R ACCT NO   42.SR VOUCHER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29 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80" y="16002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80" y="914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80" y="25146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16066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73560" y="1905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73560" y="2209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92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62720" y="824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80" y="533520"/>
            <a:ext cx="554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2388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539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38088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480" y="3200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8195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62720" y="25210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80" y="38098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44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86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32068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5740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63880" y="1066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81480" y="9208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87960" y="10666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92480" y="17524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06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8640" y="17524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80" y="434340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80" y="48769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48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21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80" y="67057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2120" y="51879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8128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197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02920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19920" y="48830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480" y="69343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7800" y="6711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80" y="853452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114800" y="693432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6934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8540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80" y="79246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89320" y="72388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64280" y="7924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264280" y="76201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06880" y="7620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27160" y="8691480"/>
            <a:ext cx="79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8915400"/>
            <a:ext cx="3352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155 1 AUG 66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19920" y="6711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057400" y="671184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8902800"/>
            <a:ext cx="68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64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57800" y="6781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5780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57800" y="82296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 JOHN D.  256-54-9701                CPT 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COMPTROLLER 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CHICAGO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 35.00        $  4.00          $  18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12007/N103 S09076  $ 35.00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12007/N103 S09076  $150.00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 USA, ADJ                                          TO 12-7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40" y="86104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1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000" y="74520"/>
            <a:ext cx="6684840" cy="9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134-90-8888 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RD BDE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LASS 28-9*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        5-20 DEC 9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9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9*    FROM FT. STEWART,GA  - ARV  FT SHERIDAN, 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9*    DEP FT SHERIDAN IL   - ARV FT STEWART, 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.  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X                                           [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MAX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 ADMIN                ROBERT L. EICHLER, LTC, GS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A141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A141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5080" y="3809880"/>
            <a:ext cx="318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0" y="86104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20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1000" y="74520"/>
            <a:ext cx="6684840" cy="9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161-72-0172              DEP  DISBURSING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Q                               22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B. SEMINAR &amp;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2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ERNA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V FT KNOX, K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FT KNOX - ARV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22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00.00             $   55.00        $  0.00          $  155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ADMIN OFFICER            ARRON R. ANDERSON, DAC, DEP DA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ARM0172TT12009/N102 S09076  $ 55.00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ARM0172TT12009/N102 S09076  $100.00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, AG,ADJ   /S/                                 TO  12-9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6576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240" y="86104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22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1760" y="76320"/>
            <a:ext cx="6645240" cy="87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UREAU VOU NUMBER        D.O VOUCHER NO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                                                  5062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.                            PAYMENT FOR                               PAID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ADV OF TVL ALLOWANCE (TDY)   X     6.  TRANS OF DEPENDENTS              23RD FINANCE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ADV OF TVL ALLOWANCE (PCS)        7.  DISLOCATION ALLOWANCE            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.  ACCRUD PER DIEM (TDY)             8.  TRAILER ALLOW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SETTLEMENT OF TDY TRAVEL          9.                                     11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SETTLEMENT OF PCS TRAVEL          1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I.                                          INDIVIDUAL PA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PAYEE (LAST NAME, FIRST               2. RANK OR GRADE              3. SOCIAL SECURITY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MSTRONG, JACK T.                        SFC                           161-72-01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ORGANIZATION AND S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Q, FT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.  TRAVEL 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 12-9, HQ, FT STEWART, GA  31314     7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.  ADVANCE OF TRAVEL ALLOWANCE ELECTED BY ABOVE MEMBER AS FOLLOW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CHECK NUMBER  8.  CHECK DATE  9.  AMOUNT PAID  1O. DATE PAID  11. RECEIVED IN CASH (SIG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100.00          11 DEC **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II.                                  PAYMENTS CONSOLIDA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PER SUDVOU NO.    THROUGH         STTACHED  2.  PER       TVL ALLOW PAYMENT LISTS ATTAC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V.                   APPROVED FOR PAYMENT (WHEN required by individual service reg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TYPED NAME AND TITLE                        2.   SIGNATU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. CORY, LTC, FC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.                                          REMA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VOUCHER(S) MUST BE FILED WITHIN FIVE DAYS AFTER COMPLETION OF TD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USPENSE DATE:  28 JAN **  (**02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I.                                ACCOUNTING CLASSIFICATION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0796.NB-4110 ARM0172TT12009/N102 S09076                        $100 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UTED BY       AUDITED BY       POSTED TO TVL          DATE ENTERED         AMOUNT PA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/S/               /S/                   11 DEC **                 100.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4200" y="8763120"/>
            <a:ext cx="3404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351   1 JUL 65 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8760" y="457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760" y="2057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8244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63680"/>
            <a:ext cx="0" cy="15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8760" y="17524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8760" y="15238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760" y="121932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760" y="91440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760" y="68580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6922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6922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236232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" y="2743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" y="3200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35812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40384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441972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" y="47242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" y="5029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" y="52578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36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36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4044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730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760" y="56386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5264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760" y="59436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760" y="66294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760" y="68580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8760" y="83818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334120" y="6851160"/>
            <a:ext cx="0" cy="15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686448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82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62320" y="8381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240" y="88390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24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152280"/>
            <a:ext cx="685800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OLICITATION, OFFER, AWARD     3.  CONTRACT IS A RATED ORDER      RATING      4. PAG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R DPAS (15CFR 350)                       1  of 1    PAG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CONTRACT NO.     2. SOLICITATION NO                     5. DATE ISSUE    6. REQUISITION/PUR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FI01 **C 1713     [ ]ADVERTISED(ifb) [x]NEGOTIATED(REP)    1 DEC **      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RC 4111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ISSUED BY                    CODE            8.  ADDRESS OFFER TO (IF OTHER THAN ITEM 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ING &amp; CONTRACTING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31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OLICITATION                                                     .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SEALED OFFERS IN ORIGINAL AND __COPIES WILL BE RECEIVED AT THE PLACE SPECIFIED IN ITEM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 THE DEPOSITORY LOCATED IN ______________________________UNTIL_______LOCAL TIME  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HOURS)           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UTION - LATE SUBMISSIONS, MODIFICATION, AND WITHDRAWALS; SEE SECTION L.  ALL OFFERS 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SUBJECT TO ALL TERMS AND CONDITIONS CONTAINED IN THIS SOLICITATION                              .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INFORMATION        A. NAME                          B.  TELEPHONE NO.  (NO COLLECT CAL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L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.                      11.                           12.      13.      14.             1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             SUPPLIES/SERVICES                QUANTITY    UNITS   UNIT PRICE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.      10 MONTH RENTAL CONTRACT ON X-RAY FOR       10 MOS.    MO      $10,000.00     $100,000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S ARMY HOSPITAL BEGINNING 1 DEC **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OFFER (MUST BE FULLY COMPLETE BY OFFEROR)                                          .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 COMPLIANCE WITH THE ABOVE, ORDER IS ACCEPTED WITHIN______CALENDAR DAYS (60 UNLESS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OM THE DATE FOR RECEIPT OF OFFERS SPECIFIED ABOVE, TO FURNISH ANY/ALL ITEMS AT PR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OPOSITE EACH ITEM, DELIVERED AT THE DESIGNATED POINT(S), IN THE SCHEDULE                        .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DISCOUNT FOR         10 CALENDAR DAY    20 CALENDAR DAY    30 CALENDAR DAY    CALENDAR 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YMENT                   %                 %                %                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NAME          CODE          FACILITY               18. NAME AND TITLE OF PERS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        QUALITY X-RAY SERVICES                     TO SIGN OFFER (TYPE OR PRI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DDRESS       3965 INDUSTRIAL BLV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         SAVANNA, GA  31314                              JANE T. SMITH, SALES MG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ER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ELEPHONE NUMBER          CHECK IF REMITTANCE          19.  SIGNATURE                20.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912) 355-0897        [ ] ADDRESS IS DIFFERENT.                  /S/               20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WARD (TO BE COMPLETED BY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ACCEPTANCE ITEMS NO.      22.  AMOUNT         23.  ACCOUNTING AND APPROPR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7*0130 74-7406 847792.33 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100,000.00         W23DFB*3190004/W330 S09076                .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4.  SUBMIT INVOICES TO ADDRESS SHOWN IN          25.  NEGOTITED    [X] 10 U.S.C. 2304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CK:  7                                     PURSUANT TO   [ ] 41 U.S. C. 252(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6.  ADMINISTERED BY          CODE                27.  PAYMENT WILL BE MADE BY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8. NAME OF CONTRACTING OFFICER                   29.  UNITED STATES OF AMERICA        30.A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ENDALL PURCHASE, LTC, PURCHASING OFFICER                         /S/                    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IGNATURE OF CONTRACTING OFFICER   1DEC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ANT - AWARD WILL BE MADE ON THIS FORM, OR SF 26, OR BY OTHER WRITTEN NOT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40" y="8767800"/>
            <a:ext cx="669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MPUTER LOOK ALIKE                                                 STANDARD FORM 33 (REV 4-8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      30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911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5238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996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895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1148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32068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1055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8672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324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873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5530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6559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5595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739152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79246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45820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79311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82360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730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51116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51116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5111640"/>
            <a:ext cx="0" cy="6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8264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196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228600"/>
            <a:ext cx="6858000" cy="831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  1.PROC.  INSTRUMENT  ID  (CONTRACT)  ORDER NO    6. INVOICE  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FI01 ** C 1713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8.  ACPT PT: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  3.  DATE SHIPPED      4. B/L  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 10.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ALITY X-RAY SERVICES, INC                     P &amp; C OFFIC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65 INDUSTRIAL BLVD                            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AVANNA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 12.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  17. QUANTITY*    18.       19.         2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RENTAL CONTRACT SERVICE - DEC **        1 MO.                 $10,000.00    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7*0130 74-7406 847792.33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23DFB*3190004/W330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  PROCUREMENT QUALITY ASSURANCE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 DEC **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.P. J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COL, M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AN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SIGN.  OF AUTH REP.                                    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N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880" y="8604360"/>
            <a:ext cx="277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440" y="5486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199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320" y="555588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440" y="5562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40" y="69343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54440" y="6400800"/>
            <a:ext cx="6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32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52280" y="85680"/>
            <a:ext cx="6553440" cy="860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tandard form  1034              PUBLIC VOUCHER FOR PURCHASES AND SERVICES AND         VOUCHER NUMBER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vised January 1980               SERVICES OTHAN PERSONAL                                226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PARTMENT OF THE TREAS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. DEPARTMENT, BUREAU AND LOCATION      DATE VOU.  PREPARED                           SCHEDULE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 ARMY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T. STEWART, GA  31314             CONTRACT NO. AND DATE                         PAID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FI01 ** C 1713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ISITION NO. &amp; DATE                          FT STEWART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31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    QUALITY X-RAY SERVICES, INC                                                  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ME        3965 INDUSTRIAL BLVD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        SAVANNAH, GA 31314                                                         DATE INVOICE REC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ISCOUNT TER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/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EE’S ACCT.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HIPPED FROM                        TO                         WEIGHT                  GOVERNMENT B/L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UMBER        DATE OF               ARTICLES OF SERVICE       QUAN-    UNIT PRICE           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D DATE      DELIVERY     (Enter description of item of      TITY     COST    P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F ORDER      /SERVICE     contract or information necess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DEC **     1-31 DEC      PAYMENT OF CONTRACT FOR X-R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CHINE RENTAL FOR THE MONTH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C **                                                           $10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cont. Sheet if necessary (Payee must not use space below)                TOTAL          $10,000.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AYMENT:          APPROVED FOR                    EXCHANGE RATE         DIF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VISIONAL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MPLETE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PARTIAL        BY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INAL                                                            AMOUNT CORRECT           $10,000.00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OGRESS       TITLE                                              SIGNATURE OF IN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ANCE                                                                 /S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URSUANT TO AUTHORITY VESTED IN ME.  I CERTIFY VOUCHER IS CORRECT AND PROPER FOR PAY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31 DEC **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WALTER CORY, LTC, FC, DO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urier New"/>
              </a:rPr>
              <a:t>DISURSING OFFIC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E         AUTHORIZED CERTIFYING OFFICER                            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COUNTING CLASS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97*0130 74-7406 847792.33-2320 W23DFB*3190004/W330 S09076  $10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  CHECK NUMBER   ON ACCOUNT OF US TREASURY        CHECK NUMBER            ON  (NAME OF BAN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   6701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  CASH               DATE                         PA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WHEN STATED IN FOREIGN CURRENCY, INSERT NAME OF CURRENCY.    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  iF THE ABILITY TO CERTIFY AND APPROVE, ONLY ONE SIGNAT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. WHEN A VOUCHER IS RECEIPTED IN NAME OF COMPANY, NAME AND     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PACITY MUST APPEARE.  FOR EXAMPLE:  “JOHN DOE, TREASURER”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720" y="8381880"/>
            <a:ext cx="1522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COMPUTER LOOK A 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6094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82440"/>
            <a:ext cx="0" cy="25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64280" y="22096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64280" y="198108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64280" y="167652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12952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615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1080" y="83808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21080" y="1143000"/>
            <a:ext cx="27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824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" y="487692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267336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26733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25840" y="281952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825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6560" y="281952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502920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586728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668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503568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7240" y="5638680"/>
            <a:ext cx="250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48830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73160" y="525780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035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73160" y="5410080"/>
            <a:ext cx="563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563868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1040" y="6248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73160" y="6248520"/>
            <a:ext cx="25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73560" y="62485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6400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6705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5240" y="7315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78487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76201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7321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44960" y="8077320"/>
            <a:ext cx="26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7854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8760" y="52578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8760" y="53341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8760" y="54864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8760" y="5562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8760" y="57150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51879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24382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26668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2280" y="31240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240" y="87501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                                                                            34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6:46:02Z</dcterms:created>
  <dc:creator>Soldier Support Institute</dc:creator>
  <dc:description/>
  <dc:language>en-US</dc:language>
  <cp:lastModifiedBy>Administrator</cp:lastModifiedBy>
  <cp:lastPrinted>2002-01-22T15:59:05Z</cp:lastPrinted>
  <dcterms:modified xsi:type="dcterms:W3CDTF">2004-09-29T14:32:06Z</dcterms:modified>
  <cp:revision>33</cp:revision>
  <dc:subject/>
  <dc:title>No Slide Title</dc:title>
</cp:coreProperties>
</file>